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himes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C1E-D91D-4F16-B237-BAE30821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487-18D8-4C6E-890C-9CD22AFE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473-A011-4B43-839B-16455940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789-0A29-4FD4-B262-C2CEFCAF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FC2-0502-4D7C-AA04-ED870BB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571-969D-4FB5-97B6-ED6A4CCB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D9F-B864-4A96-89E1-B2FB85E0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656-7923-4012-862E-2845BDA6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6FF-FCB7-42E8-A39B-BDC302C4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732-4946-4234-BE89-B951063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156-3DD6-4191-80B9-1E278CC5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335-0953-488D-9271-62106666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5821-AA54-44C5-8BCE-5604BD2CE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chimes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himes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himes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himes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 or 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33440" y="1917720"/>
                <a:ext cx="762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76360" y="4687920"/>
                <a:ext cx="89532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50960" y="1884240"/>
                <a:ext cx="493920" cy="13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641600" y="3232080"/>
                <a:ext cx="538200" cy="13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3429000" y="11937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Since there is a common denominator, simply add or subtract the num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25416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Then, put it over the common denomin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46280" y="5681520"/>
                <a:ext cx="504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429000" y="34113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Finally, write it as a mixed number and reduce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511360" y="5207040"/>
                <a:ext cx="952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457440" y="4691160"/>
                <a:ext cx="6732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541680" y="5643720"/>
                <a:ext cx="50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51440" y="4776840"/>
                <a:ext cx="1009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029120" y="5626080"/>
                <a:ext cx="1009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81760" y="5208480"/>
                <a:ext cx="952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010200" y="4691160"/>
                <a:ext cx="61776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040440" y="567072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 or 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88800" y="1852560"/>
                <a:ext cx="8082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00040" y="4622760"/>
                <a:ext cx="100656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770040" y="456732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363384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517760" y="1819440"/>
                <a:ext cx="7174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30360" y="3166920"/>
                <a:ext cx="717480" cy="13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429000" y="138924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Georgia"/>
              </a:rPr>
              <a:t>Since there is a common denominator, simply add or subtract the num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28908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Georgia"/>
              </a:rPr>
              <a:t>Then, put it over the common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86080" y="5645160"/>
                <a:ext cx="784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429000" y="391320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Georgia"/>
              </a:rPr>
              <a:t>Finally, write it as a mixed number and reduce, if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 or 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63400" y="3230640"/>
                <a:ext cx="67176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73160" y="1558800"/>
                <a:ext cx="1301760" cy="13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429000" y="11937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Since there is a common denominator, simply add or subtract the num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25416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Then, put it over the common denomin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42960" y="4222800"/>
                <a:ext cx="50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429000" y="34113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Finally, write it as a mixed number and reduce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155600" y="3295800"/>
                <a:ext cx="1009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33640" y="4145040"/>
                <a:ext cx="1009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055960" y="3911760"/>
                <a:ext cx="560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37000" y="3232080"/>
                <a:ext cx="6174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666880" y="421164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 or 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4596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33440" y="3230640"/>
                <a:ext cx="100656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066680" y="1538280"/>
                <a:ext cx="17956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429000" y="11937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Since there is a common denominator, simply add or subtract the num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5416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Then, put it over the common denomin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40000" y="4222800"/>
                <a:ext cx="785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29000" y="34113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Finally, write it as a mixed number and reduce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7720" y="5468760"/>
                <a:ext cx="9525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5680" y="4952880"/>
                <a:ext cx="100944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638360" y="5905440"/>
                <a:ext cx="785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287440" y="5038560"/>
                <a:ext cx="100980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265480" y="5888160"/>
                <a:ext cx="1009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317760" y="5470560"/>
                <a:ext cx="952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246560" y="4952880"/>
                <a:ext cx="6174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305240" y="59040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equivalent fractions with the least common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12840" y="2016000"/>
                <a:ext cx="353052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9228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819680" y="1585800"/>
            <a:ext cx="4324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o find the least common denominator, take the larger of the two denominators, name its multiples until the smaller denominators go into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1616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25560" y="2835360"/>
                <a:ext cx="728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49320" y="2009880"/>
                <a:ext cx="728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0920" y="4097160"/>
                <a:ext cx="559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683160" y="2776680"/>
                <a:ext cx="6174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660840" y="1990800"/>
                <a:ext cx="617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382840" y="4119480"/>
                <a:ext cx="558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189400" y="4467240"/>
                <a:ext cx="781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97280" y="5178600"/>
            <a:ext cx="534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hen multiply the numerator by what the denominator was multiplied by to get the new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equivalent fractions with the least common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1680" y="1886040"/>
                <a:ext cx="35211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228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819680" y="1585800"/>
            <a:ext cx="4324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o find the least common denominator, take the larger of the two denominators, name its multiples until the smaller denominators go into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1616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031760" y="2754360"/>
                <a:ext cx="784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052640" y="1908000"/>
                <a:ext cx="784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80920" y="4125960"/>
                <a:ext cx="559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27360" y="2749680"/>
                <a:ext cx="730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605040" y="1897200"/>
                <a:ext cx="730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09840" y="411948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148360" y="4424400"/>
                <a:ext cx="557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3797280" y="5178600"/>
            <a:ext cx="534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hen multiply the numerator by what the denominator was multiplied by to get the new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862600" y="4406760"/>
                <a:ext cx="7812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equivalent fractions with the least common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1680" y="1886040"/>
                <a:ext cx="35211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803160" y="3987720"/>
                <a:ext cx="6717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819680" y="1585800"/>
            <a:ext cx="4324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o find the least common denominator, take the larger of the two denominators, name its multiples until the smaller denominators go into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27400" y="3987720"/>
                <a:ext cx="6714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81080" y="2768760"/>
                <a:ext cx="727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081080" y="1922400"/>
                <a:ext cx="727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09720" y="4098960"/>
                <a:ext cx="501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643200" y="2733840"/>
                <a:ext cx="785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665520" y="1882800"/>
                <a:ext cx="785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382840" y="408312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175360" y="4424400"/>
                <a:ext cx="501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97280" y="5178600"/>
            <a:ext cx="534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hen multiply the numerator by what the denominator was multiplied by to get the new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996160" y="4424400"/>
                <a:ext cx="5569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equivalent fractions with the least common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1680" y="1886040"/>
                <a:ext cx="35211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9228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819680" y="1585800"/>
            <a:ext cx="4324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o find the least common denominator, take the larger of the two denominators, name its multiples until the smaller denominators go into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1616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81080" y="2768760"/>
                <a:ext cx="727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81080" y="1922400"/>
                <a:ext cx="727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09720" y="4098960"/>
                <a:ext cx="501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643200" y="2733840"/>
                <a:ext cx="785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665520" y="1882800"/>
                <a:ext cx="785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382840" y="408312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175360" y="4424400"/>
                <a:ext cx="501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3797280" y="5178600"/>
            <a:ext cx="534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hen multiply the numerator by what the denominator was multiplied by to get the new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970600" y="4402080"/>
                <a:ext cx="7794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95, 8 – 1 #1-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97, 8 – 2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5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1-18T13:54:04Z</dcterms:modified>
  <cp:revision>73</cp:revision>
  <dc:subject/>
  <dc:title>Slide 1</dc:title>
</cp:coreProperties>
</file>